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D3A2-FA51-488A-9BD8-FF5D288D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126-24A5-4978-BBEE-F9E457C8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E08D-C232-41C7-B1CA-D346B569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696-5881-4DEF-981A-C109D918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AC8B-9ABB-4C40-BFB2-BFFDD02C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7B25-20DF-4A79-8393-3838261D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D0FB-865B-4253-A52D-073EE880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A23-1B43-4D2A-B8CA-D5CC920F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6B9-7533-463F-BA67-A3C369AD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6F50-5A77-4A18-9410-71881E3D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D71-C267-4C89-B67E-C5703D5F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01B-BBDA-4D84-B011-AE3B03AB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AA36-CB82-4CDA-82BC-DE832A617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(Course Name) Bunker Reno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aettenschweiler"/>
              </a:rPr>
              <a:t>Course Conditions &amp; Planning Ide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sample-logo-here.png"/>
          <p:cNvPicPr/>
          <p:nvPr/>
        </p:nvPicPr>
        <p:blipFill>
          <a:blip r:embed="rId2"/>
          <a:stretch/>
        </p:blipFill>
        <p:spPr>
          <a:xfrm>
            <a:off x="3733920" y="4343400"/>
            <a:ext cx="16570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Compl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Issues Known by Members/Golfe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Issues Known by Members/Golfe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Issues Known by Members/Golfe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Issues Known by Members/Golfe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Maintenance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Challenge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Challenge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Challenge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Challenge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Maintenance Co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Estimate &amp; Summarize Bunker Maintenanc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Estimate Bunker Labor Hours/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Estimate Sand Replenishment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Opportunities – Project 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219320"/>
            <a:ext cx="67053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Opportunities – Project 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219320"/>
            <a:ext cx="67053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Opportunities – Project 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219320"/>
            <a:ext cx="67053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Opportunities – Project 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219320"/>
            <a:ext cx="67053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Project Planning – Initial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scribe your “Wish Lis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scribe your “Wish Lis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btb02-01.jpg"/>
          <p:cNvPicPr/>
          <p:nvPr/>
        </p:nvPicPr>
        <p:blipFill>
          <a:blip r:embed="rId3"/>
          <a:stretch/>
        </p:blipFill>
        <p:spPr>
          <a:xfrm>
            <a:off x="5129280" y="1447920"/>
            <a:ext cx="284796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Project Planning – Initial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fine Your Ideal Project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REAL feasibility of a bunker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Basic Implementation Methods Under Consi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Basic Roles &amp; Responsibilities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btb02-01.jpg"/>
          <p:cNvPicPr/>
          <p:nvPr/>
        </p:nvPicPr>
        <p:blipFill>
          <a:blip r:embed="rId3"/>
          <a:stretch/>
        </p:blipFill>
        <p:spPr>
          <a:xfrm>
            <a:off x="5129280" y="1447920"/>
            <a:ext cx="284796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Project Planning – Basic Compon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scribe Architect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scribe In-Hous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fine Basic Cost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btb02-01.jpg"/>
          <p:cNvPicPr/>
          <p:nvPr/>
        </p:nvPicPr>
        <p:blipFill>
          <a:blip r:embed="rId3"/>
          <a:stretch/>
        </p:blipFill>
        <p:spPr>
          <a:xfrm>
            <a:off x="5129280" y="1447920"/>
            <a:ext cx="284796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Current Rea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A quick statement of average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A quick statement of bunker compla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A quick statement of maintenanc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A quick statement of labor &amp; sand replenishment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btb02-01.jpg"/>
          <p:cNvPicPr/>
          <p:nvPr/>
        </p:nvPicPr>
        <p:blipFill>
          <a:blip r:embed="rId3"/>
          <a:srcRect l="0" t="12210" r="0" b="15903"/>
          <a:stretch/>
        </p:blipFill>
        <p:spPr>
          <a:xfrm>
            <a:off x="4572000" y="1447920"/>
            <a:ext cx="396252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Project Planning – Basic Cost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1219320" y="1676520"/>
          <a:ext cx="6553080" cy="3336840"/>
        </p:xfrm>
        <a:graphic>
          <a:graphicData uri="http://schemas.openxmlformats.org/drawingml/2006/table">
            <a:tbl>
              <a:tblPr/>
              <a:tblGrid>
                <a:gridCol w="350496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Haettenschweiler"/>
                        </a:rPr>
                        <a:t>Project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Haettenschweiler"/>
                        </a:rPr>
                        <a:t>Basic Unit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Architect F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ilder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Earth M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,000/cu. y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nker Pr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cu. y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Drai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Lin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sq. f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nker S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0.00/cu. Y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Sod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sq. f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Project Planning –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fine Planning Team Set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Basic Planning Commun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Planning Time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Address Preliminary Project Management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Project Planning –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Approval for Continued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Planning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The One T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brief description here that justifies your idea for pursuing a bunker renov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Make a bold statement regarding long-term maintenance cost control, improved bunker conditions, and enhancing the course’s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btb02-01.jpg"/>
          <p:cNvPicPr/>
          <p:nvPr/>
        </p:nvPicPr>
        <p:blipFill>
          <a:blip r:embed="rId3"/>
          <a:srcRect l="0" t="14533" r="0" b="0"/>
          <a:stretch/>
        </p:blipFill>
        <p:spPr>
          <a:xfrm>
            <a:off x="5029200" y="1447920"/>
            <a:ext cx="3328920" cy="403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Pictora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1430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Pictora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1430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Pictora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1430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Pictora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1430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Pictora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1430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Current Rea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Facto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Facto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Facto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Facto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2:40:37Z</dcterms:created>
  <dc:creator>Brian Flynn</dc:creator>
  <dc:description/>
  <dc:language>en-US</dc:language>
  <cp:lastModifiedBy>Brian Flynn</cp:lastModifiedBy>
  <dcterms:modified xsi:type="dcterms:W3CDTF">2009-05-08T11:17:47Z</dcterms:modified>
  <cp:revision>74</cp:revision>
  <dc:subject/>
  <dc:title>(Course Name) Bun</dc:title>
</cp:coreProperties>
</file>