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818C-8FE5-4204-A272-53459114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001-54DF-4356-9C91-34B7D4D8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273-4A54-4A0F-9E76-AF4F8ACB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286-54DC-4252-80A8-CB5590F2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A0AC-1E27-4FE8-8391-7181C135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78A3-A167-467A-8E74-00A93642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790-EA77-4310-AC58-B2516564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D96-FD75-43CE-9C2F-6AC59B2D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1B69-4DFE-4E30-8603-914A052E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619-8148-492A-9ECF-7CF80EA3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A87D-5066-4C73-B788-6C77C03E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4D7C-FCF4-42A9-BF68-7A526EAB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9023-C273-4809-B0E9-04BEC81AF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(Course Name) Bunker Reno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aettenschweiler"/>
              </a:rPr>
              <a:t>Add Your Own Attention-Getting Sub-H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sample-logo-here.png"/>
          <p:cNvPicPr/>
          <p:nvPr/>
        </p:nvPicPr>
        <p:blipFill>
          <a:blip r:embed="rId2"/>
          <a:stretch/>
        </p:blipFill>
        <p:spPr>
          <a:xfrm>
            <a:off x="3733920" y="3581280"/>
            <a:ext cx="16570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Current Rea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Facto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Facto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Facto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Facto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Compl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Issues Known by Members/Golfe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Issues Known by Members/Golfe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Issues Known by Members/Golfe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Issues Known by Members/Golfe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Maintenance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Challenge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Challenge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Challenge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Challenge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Maintenance Co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Estimate &amp; Summarize Bunker Maintenanc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Estimate Bunker Labor Hours/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Estimate Sand Replenishment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Projec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89" name="Diagram 4" descr=""/>
          <p:cNvPicPr/>
          <p:nvPr/>
        </p:nvPicPr>
        <p:blipFill>
          <a:blip r:embed="rId3"/>
          <a:stretch/>
        </p:blipFill>
        <p:spPr>
          <a:xfrm>
            <a:off x="1663560" y="1517760"/>
            <a:ext cx="5823000" cy="3773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ettenschweiler"/>
              </a:rPr>
              <a:t>Place your Implementation method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Projec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Advantages of Selected Project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Options, if neccess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Estimate Sand Replenishment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Imporvements Def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Top Issues to be Im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How Priorities Were Def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Examples of Other Similar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Opportunities – Proven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219320"/>
            <a:ext cx="67053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Opportunities – Proven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219320"/>
            <a:ext cx="67053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Opportunities – Proven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219320"/>
            <a:ext cx="67053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Planning - Introd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Introduce Your Team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Acknowledge Specific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Opportunities – Proven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219320"/>
            <a:ext cx="67053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Design Concep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scribe your “Wish Lis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scribe Prospective Architect Design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Alternatives &amp; Trade-Of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Proven Renovation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btb02-01.jpg"/>
          <p:cNvPicPr/>
          <p:nvPr/>
        </p:nvPicPr>
        <p:blipFill>
          <a:blip r:embed="rId3"/>
          <a:stretch/>
        </p:blipFill>
        <p:spPr>
          <a:xfrm>
            <a:off x="5129280" y="1447920"/>
            <a:ext cx="284796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Project S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fine Your Parameters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btb02-01.jpg"/>
          <p:cNvPicPr/>
          <p:nvPr/>
        </p:nvPicPr>
        <p:blipFill>
          <a:blip r:embed="rId3"/>
          <a:stretch/>
        </p:blipFill>
        <p:spPr>
          <a:xfrm>
            <a:off x="5129280" y="1447920"/>
            <a:ext cx="284796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Architect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Selection Cri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Highlight Candidate Qualif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Final Architect 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If included, have Architect present full design ideas &amp; altern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Contractual Arrang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btb02-01.jpg"/>
          <p:cNvPicPr/>
          <p:nvPr/>
        </p:nvPicPr>
        <p:blipFill>
          <a:blip r:embed="rId3"/>
          <a:stretch/>
        </p:blipFill>
        <p:spPr>
          <a:xfrm>
            <a:off x="5129280" y="1447920"/>
            <a:ext cx="284796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Builder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Selection Cri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Highlight Candidate Qualif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Final Contractor 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Contractual Arrang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If an In-House Project, discuss basic Team capa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btb02-01.jpg"/>
          <p:cNvPicPr/>
          <p:nvPr/>
        </p:nvPicPr>
        <p:blipFill>
          <a:blip r:embed="rId3"/>
          <a:stretch/>
        </p:blipFill>
        <p:spPr>
          <a:xfrm>
            <a:off x="5129280" y="1447920"/>
            <a:ext cx="284796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The Bidding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Bidding Stand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Line Item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btb02-01.jpg"/>
          <p:cNvPicPr/>
          <p:nvPr/>
        </p:nvPicPr>
        <p:blipFill>
          <a:blip r:embed="rId3"/>
          <a:stretch/>
        </p:blipFill>
        <p:spPr>
          <a:xfrm>
            <a:off x="5129280" y="1447920"/>
            <a:ext cx="284796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Projected 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Summarize Basic Ti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Your Milestones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Your Milestones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Your Milestones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Your Milestones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Your Milestones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Project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Summarize Project Start Up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Internal/External Commun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Impact to Course/Members/Golf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Internal Team Responsibil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Project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Summarize Project In-Process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Proposed Construction Sched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Plans for Chang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Plans for Financial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Sand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Summarize Sand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Sand Acquisition Altern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Solutions &amp;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A quick statement of average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A quick statement of bunker compla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A quick statement of maintenanc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A quick statement of labor &amp; sand replenishment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btb02-01.jpg"/>
          <p:cNvPicPr/>
          <p:nvPr/>
        </p:nvPicPr>
        <p:blipFill>
          <a:blip r:embed="rId3"/>
          <a:srcRect l="0" t="12210" r="0" b="15903"/>
          <a:stretch/>
        </p:blipFill>
        <p:spPr>
          <a:xfrm>
            <a:off x="4572000" y="1447920"/>
            <a:ext cx="396252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Sand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Summarize Sand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Sand Acquisition Altern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Sand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Summarize Sand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Sand Acquisition Altern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Line Item C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1219320" y="1676520"/>
          <a:ext cx="6553080" cy="3336840"/>
        </p:xfrm>
        <a:graphic>
          <a:graphicData uri="http://schemas.openxmlformats.org/drawingml/2006/table">
            <a:tbl>
              <a:tblPr/>
              <a:tblGrid>
                <a:gridCol w="350496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Haettenschweiler"/>
                        </a:rPr>
                        <a:t>Project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Haettenschweiler"/>
                        </a:rPr>
                        <a:t>Basic Unit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ilder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Earth M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,000/cu. y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nker Pr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cu. y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Drai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Lin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sq. f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nker S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0.00/cu. Y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Sod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sq. f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To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0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Line Item C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1219320" y="1676520"/>
          <a:ext cx="6553080" cy="3336840"/>
        </p:xfrm>
        <a:graphic>
          <a:graphicData uri="http://schemas.openxmlformats.org/drawingml/2006/table">
            <a:tbl>
              <a:tblPr/>
              <a:tblGrid>
                <a:gridCol w="350496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Haettenschweiler"/>
                        </a:rPr>
                        <a:t>Project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Haettenschweiler"/>
                        </a:rPr>
                        <a:t>Basic Unit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ilder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Earth M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,000/cu. y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nker Pr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cu. y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Drai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Lin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sq. f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nker S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0.00/cu. Y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Sod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sq. f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To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0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Line Item C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1219320" y="1676520"/>
          <a:ext cx="6553080" cy="3336840"/>
        </p:xfrm>
        <a:graphic>
          <a:graphicData uri="http://schemas.openxmlformats.org/drawingml/2006/table">
            <a:tbl>
              <a:tblPr/>
              <a:tblGrid>
                <a:gridCol w="350496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Haettenschweiler"/>
                        </a:rPr>
                        <a:t>Project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Haettenschweiler"/>
                        </a:rPr>
                        <a:t>Basic Unit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ilder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Earth M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,000/cu. y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nker Pr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cu. y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Drai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Lin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sq. f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nker S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0.00/cu. Y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Sod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sq. f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To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0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fine Impact to 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fine Changes/Improvements to Maint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Improving Bunkers as a Course As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Strategic &amp; Play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Project Planning –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Approval for Continued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Planning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The One T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brief description here that justifies your idea for pursuing a bunker renov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Make a bold statement regarding long-term maintenance cost control, improved bunker conditions, and enhancing the course’s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btb02-01.jpg"/>
          <p:cNvPicPr/>
          <p:nvPr/>
        </p:nvPicPr>
        <p:blipFill>
          <a:blip r:embed="rId3"/>
          <a:srcRect l="0" t="14533" r="0" b="0"/>
          <a:stretch/>
        </p:blipFill>
        <p:spPr>
          <a:xfrm>
            <a:off x="5029200" y="1447920"/>
            <a:ext cx="3328920" cy="403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Pictoral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1430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Pictoral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1430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Pictoral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1430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Pictoral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1430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Pictoral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1430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2:40:37Z</dcterms:created>
  <dc:creator>Brian Flynn</dc:creator>
  <dc:description/>
  <dc:language>en-US</dc:language>
  <cp:lastModifiedBy>Brian Flynn</cp:lastModifiedBy>
  <dcterms:modified xsi:type="dcterms:W3CDTF">2009-05-08T12:16:48Z</dcterms:modified>
  <cp:revision>80</cp:revision>
  <dc:subject/>
  <dc:title>(Course Name) Bun</dc:title>
</cp:coreProperties>
</file>