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A935-02D0-46F7-848D-3D5154D2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050-5301-4D4E-967D-F6733802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579-45B5-43CB-8389-74308BFB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0A62-0659-4FF5-AB22-4ED5F70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59E-B2A5-4896-B344-BA2FC1FE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8779-3E68-4C60-8F0A-76CA2201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ADB-4057-4335-B403-C8408CF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52C-12AF-46DB-9959-985159E1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8D0-FF25-40DB-92F2-4B30924A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B82-870A-4A92-95A2-91CCCB96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5A79-A1DE-496F-9ECF-40A97A85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7E9-CCCB-4520-A868-D6C12941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FB7-1EF6-4291-A496-D26B88874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(Course Name) Bunker Reno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aettenschweiler"/>
              </a:rPr>
              <a:t>Add Your Own Attention-Getting Sub-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sample-logo-here.png"/>
          <p:cNvPicPr/>
          <p:nvPr/>
        </p:nvPicPr>
        <p:blipFill>
          <a:blip r:embed="rId2"/>
          <a:stretch/>
        </p:blipFill>
        <p:spPr>
          <a:xfrm>
            <a:off x="3733920" y="3581280"/>
            <a:ext cx="16570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urrent Re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Facto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Compla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Issues Known by Members/Golfer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Top Maintenance Challenges &amp; descri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Maintenance Co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&amp; Summarize Bunker Maintenanc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Bunker Labor Hours/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89" name="Diagram 4" descr=""/>
          <p:cNvPicPr/>
          <p:nvPr/>
        </p:nvPicPr>
        <p:blipFill>
          <a:blip r:embed="rId3"/>
          <a:stretch/>
        </p:blipFill>
        <p:spPr>
          <a:xfrm>
            <a:off x="1663560" y="1517760"/>
            <a:ext cx="5823000" cy="377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aettenschweiler"/>
              </a:rPr>
              <a:t>Place your Implementation metho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Advantages of Selected Project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Options, if nec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stimate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Imporvements Def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Top Issues to be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How Priorities Were Def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Examples of Other Similar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Planning - Introdu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ntroduce Your Team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cknowledge Specific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Opportunities – Proven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219320"/>
            <a:ext cx="6705360" cy="44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Design Concep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your “Wish List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scribe Prospective Architect Design Concep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Alternatives &amp; Trade-Of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roven Renovation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Sc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Your Parameter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Architect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Selec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Highlight Candidate Qual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Final Architect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f included, have Architect present full design ideas &amp;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Contractual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Builder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Selection Cri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Highlight Candidate Qualif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Final Contractor 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Contractual Arrang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f an In-House Project, discuss basic Team cap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The Bidd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Bidding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Line Item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btb02-01.jpg"/>
          <p:cNvPicPr/>
          <p:nvPr/>
        </p:nvPicPr>
        <p:blipFill>
          <a:blip r:embed="rId3"/>
          <a:stretch/>
        </p:blipFill>
        <p:spPr>
          <a:xfrm>
            <a:off x="5129280" y="1447920"/>
            <a:ext cx="284796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ed 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Basic Ti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List Your Milestones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Project Start Up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Internal/External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Impact to Course/Members/Golf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Internal Team Responsibil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Project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Project In-Process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roposed Construction Sched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lans for Chang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Review Plans for Financial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Sand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S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Sand Acquisition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Solutions &amp;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average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bunker compla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maintenance eff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A quick statement of labor &amp; sand replenishment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btb02-01.jpg"/>
          <p:cNvPicPr/>
          <p:nvPr/>
        </p:nvPicPr>
        <p:blipFill>
          <a:blip r:embed="rId3"/>
          <a:srcRect l="0" t="12210" r="0" b="15903"/>
          <a:stretch/>
        </p:blipFill>
        <p:spPr>
          <a:xfrm>
            <a:off x="4572000" y="1447920"/>
            <a:ext cx="396252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Sand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S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Sand Acquisition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Sand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ummarize Sand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Sand Acquisition Altern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Line Item C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Line Item C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Line Item C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1219320" y="1676520"/>
          <a:ext cx="6553080" cy="3336840"/>
        </p:xfrm>
        <a:graphic>
          <a:graphicData uri="http://schemas.openxmlformats.org/drawingml/2006/table">
            <a:tbl>
              <a:tblPr/>
              <a:tblGrid>
                <a:gridCol w="35049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Project 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Haettenschweiler"/>
                        </a:rPr>
                        <a:t>Basic Un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ilder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Earth Mo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,0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P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cu. y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Drain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Lin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Bunker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.00/cu. Y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S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.00/sq. f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Tot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Haettenschweiler"/>
                        </a:rPr>
                        <a:t>$000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Benef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Impact to Cou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efine Changes/Improvements to Mainten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Improving Bunkers as a Course Ass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Strategic &amp; Play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Project Planning –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360" y="1295280"/>
            <a:ext cx="701028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Approval for Continued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Discuss Planning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Bunker Renovation – The One T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4114800" cy="4525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brief description here that justifies your idea for pursuing a bunker reno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Make a bold statement regarding long-term maintenance cost control, improved bunker conditions, and enhancing the course’s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btb02-01.jpg"/>
          <p:cNvPicPr/>
          <p:nvPr/>
        </p:nvPicPr>
        <p:blipFill>
          <a:blip r:embed="rId3"/>
          <a:srcRect l="0" t="14533" r="0" b="0"/>
          <a:stretch/>
        </p:blipFill>
        <p:spPr>
          <a:xfrm>
            <a:off x="5029200" y="1447920"/>
            <a:ext cx="3328920" cy="40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Course Bunkers – Pictoral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6248160"/>
            <a:ext cx="4114800" cy="609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 fontScale="78000"/>
          </a:bodyPr>
          <a:p>
            <a:pPr marL="266040" indent="-266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aettenschweiler"/>
              </a:rPr>
              <a:t>Place a picture caption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sample-logo-here.png"/>
          <p:cNvPicPr/>
          <p:nvPr/>
        </p:nvPicPr>
        <p:blipFill>
          <a:blip r:embed="rId2"/>
          <a:stretch/>
        </p:blipFill>
        <p:spPr>
          <a:xfrm>
            <a:off x="8229600" y="6019920"/>
            <a:ext cx="743040" cy="72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#11 Greenside bunker 001.jpg"/>
          <p:cNvPicPr/>
          <p:nvPr/>
        </p:nvPicPr>
        <p:blipFill>
          <a:blip r:embed="rId3"/>
          <a:stretch/>
        </p:blipFill>
        <p:spPr>
          <a:xfrm>
            <a:off x="1219320" y="11430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2:40:37Z</dcterms:created>
  <dc:creator>Brian Flynn</dc:creator>
  <dc:description/>
  <dc:language>en-US</dc:language>
  <cp:lastModifiedBy>Brian Flynn</cp:lastModifiedBy>
  <dcterms:modified xsi:type="dcterms:W3CDTF">2009-05-08T12:16:48Z</dcterms:modified>
  <cp:revision>80</cp:revision>
  <dc:subject/>
  <dc:title>(Course Name) Bun</dc:title>
</cp:coreProperties>
</file>