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B46-2767-49DF-9D9B-E87459BA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0FC-9B59-4100-868A-99F4CE8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9876-CA3B-452D-BFAF-F0222048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0D0-9C6F-4472-B71C-5B31ECFC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E899-A50C-411A-89A1-53E474B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E7E0-4C5C-4FE2-BA74-0AAB1962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043-EAA2-4BAF-B004-842BCADD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2853-F6AB-46DD-BCDE-212A1FC8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9BE6-BC87-4DC6-B665-AC588E91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0AC-9140-4C11-986E-78F1FAB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EED0-B997-4C2F-B48C-5CD7737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2F4-7097-4BEB-AEDB-D81EF914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A3A7-46EE-4A0B-972F-8E1D3AB57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(Course Name) Bunker Re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</a:rPr>
              <a:t>Course Conditions &amp; Planning Id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sample-logo-here.png"/>
          <p:cNvPicPr/>
          <p:nvPr/>
        </p:nvPicPr>
        <p:blipFill>
          <a:blip r:embed="rId2"/>
          <a:stretch/>
        </p:blipFill>
        <p:spPr>
          <a:xfrm>
            <a:off x="3733920" y="4343400"/>
            <a:ext cx="1657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ompl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&amp; Summarize Bunker Maintenanc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Bunker Labor Hours/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ject 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Initial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Initial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Your Ideal Project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REAL feasibility of a bunker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Implementation Methods Under Consid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Roles &amp; Responsibilities of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Basic Compon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Architect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In-Hous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Basic Cost El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averag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bunk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maintenanc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labor &amp;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btb02-01.jpg"/>
          <p:cNvPicPr/>
          <p:nvPr/>
        </p:nvPicPr>
        <p:blipFill>
          <a:blip r:embed="rId3"/>
          <a:srcRect l="0" t="12210" r="0" b="15903"/>
          <a:stretch/>
        </p:blipFill>
        <p:spPr>
          <a:xfrm>
            <a:off x="4572000" y="1447920"/>
            <a:ext cx="396252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Basic Cost El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Architect F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Planning Team Se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asic Planning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ning Time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ddress Preliminary Project Management Id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pproval for Continued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Planning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The One 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brief description here that justifies your idea for pursuing a bunker reno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Make a bold statement regarding long-term maintenance cost control, improved bunker conditions, and enhancing the course’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tb02-01.jpg"/>
          <p:cNvPicPr/>
          <p:nvPr/>
        </p:nvPicPr>
        <p:blipFill>
          <a:blip r:embed="rId3"/>
          <a:srcRect l="0" t="14533" r="0" b="0"/>
          <a:stretch/>
        </p:blipFill>
        <p:spPr>
          <a:xfrm>
            <a:off x="5029200" y="1447920"/>
            <a:ext cx="332892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40:37Z</dcterms:created>
  <dc:creator>Brian Flynn</dc:creator>
  <dc:description/>
  <dc:language>en-US</dc:language>
  <cp:lastModifiedBy>Brian Flynn</cp:lastModifiedBy>
  <dcterms:modified xsi:type="dcterms:W3CDTF">2009-05-08T11:17:47Z</dcterms:modified>
  <cp:revision>74</cp:revision>
  <dc:subject/>
  <dc:title>(Course Name) Bun</dc:title>
</cp:coreProperties>
</file>